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EB7-E2F1-42B8-86A7-CA748677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8E0-40A6-4A31-B771-E7270CE3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CCD-1728-43A4-96F7-15D8B120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844-F11E-4E5B-8FDA-2C504DDB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B14-8275-4495-A903-93908D5B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1A3-7212-49EB-B050-9F01FB14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E4D-6069-444F-A146-F12F9772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0F2-A3C0-4213-AD13-765E0BAE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A91-D0ED-4683-A69A-28A22D51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055-E5E7-42E7-89CE-0C4A4CB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AD1-C73B-4F8F-9381-71B7630E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DA4-9BD9-4702-B0BE-D46676FE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299D-D108-4583-A9BE-FF1411FFD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5;&#1043;&#1069;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3640" y="188640"/>
            <a:ext cx="35956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Деятельность мозга </a:t>
            </a:r>
            <a:br>
              <a:rPr sz="3200"/>
            </a:b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и </a:t>
            </a:r>
            <a:br>
              <a:rPr sz="3200"/>
            </a:br>
            <a:r>
              <a:rPr b="1" i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пит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89744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оможет успешно грызть гранит нау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Черник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способствует кровообращению мозга. Лучше всего есть свежие ягоды или варень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Е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Что происходит с нами, когда мы мысли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Непрерывно работ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свыше 100 миллиар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нервных клет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причем каждая связана с еще 10000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Как работает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Каждую секунду нервные клетки одновременно обмениваются информацией и подают миллионы сигналов. Для того чтобы этот сложнейший механизм функционировал без сбоев, клеткам серого вещества мозга необходимо большое количество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работает моз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Мозг ежедневно забирает 20 процентов всей энергии, получаемой с пищей. Таким образом, то, что мы едим, решающим образом сказывается на работоспособности нашего моз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лучшить память помож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11280" y="1196640"/>
            <a:ext cx="6400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Морков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собенно облегчает заучивание чего-либо наизусть за счет того, что стимулирует обмен веществ в мозгу. Наш совет: перед зубрежкой съесть тарелку тертой моркови с растительным мас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08908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одукты для улучшения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Ананас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— любимый фрукт театральных и музыкальных звезд. Тот, кому необходимо удерживать в памяти большой объем текста или нотных знаков, нуждается в витамине С, который в достаточном количестве содержится в этом фрукте. Кроме того, в ананасах очень мало калорий (в 100 г всего 56). Достаточно выпивать 1 стакан ананасового сока в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может …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умн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33"/>
                </a:solidFill>
                <a:uFillTx/>
                <a:latin typeface="Arial"/>
              </a:rPr>
              <a:t>Авокад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 источник энергии для кратковременной памяти (например, при составлении планов, расписаний, списков покупок и т.д.) за счет высокого содержания жирных кислот. Достаточно половины пл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 u="sng">
                <a:solidFill>
                  <a:srgbClr val="008080"/>
                </a:solidFill>
                <a:uFillTx/>
                <a:latin typeface="Arial"/>
              </a:rPr>
              <a:t>Успешно грызть гранит науки помогает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апу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нимает нервозность. так как снижает активность щитовидной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ы прошел «мандраж», съешьте салат из капусты перед экзаменами, и вы спокойно к ним подготов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Вкусно и очень полез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Лимон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вежает мысли и облегчает восприятие информации за счет ударной дозы витамина 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занятиями иностранным языком неплохо выпить стаканчик лимонного с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4437000"/>
            <a:ext cx="2124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2:42Z</dcterms:created>
  <dc:creator>User</dc:creator>
  <dc:description/>
  <dc:language>en-US</dc:language>
  <cp:lastModifiedBy>Сарабарова</cp:lastModifiedBy>
  <dcterms:modified xsi:type="dcterms:W3CDTF">2009-03-20T12:56:32Z</dcterms:modified>
  <cp:revision>9</cp:revision>
  <dc:subject/>
  <dc:title>Деятельность мозга и питание.</dc:title>
</cp:coreProperties>
</file>